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100-A444-45A7-A86C-D354AFD7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A67-B1DD-4E8C-986B-03737604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485-E5A1-495E-B146-E0B7F0A4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163-587A-4007-B69D-64C6A018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680-20B7-4DDA-91F4-FC1B5DA2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2E2-ED5D-45BB-B408-DDD6767D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0B9-C586-4577-AF84-6E7AD53B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255-F422-409A-90DC-26A29753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1C3-52E8-41A7-963D-777150E9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2F0-3B8C-4E5F-93B6-2E042417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E18-1125-45E7-94BD-E66B8A52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EC5-1B7B-4C5F-9D0A-A2A27378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D855-6B3F-46F5-AA19-0F5A4E7FE44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5 Do diaľav sveta, Boží ľ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diaľav sveta, Boží ľu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s radostnú zvesť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je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ik nemá biedne zahynú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počuť chce dnes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í hlas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pravdy Božej pochodeň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 svetla svetu prináš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šíri radosť deň čo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mračná dušu povznáš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ez závoj sĺz smie nádej zrie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Boží maják v príboj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čuť spásne slovo znie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rany sveta zahojí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spáse túžia zástup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ch milosť Božia nasý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zloba pravde ustúp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 lásky srdce pocít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7:07:26Z</dcterms:modified>
  <cp:revision>49</cp:revision>
  <dc:subject/>
  <dc:title>Je veľký náš Pán, on slávy je Kráľ Nech do všetkých strán  spev vrúcnych znie chvál.</dc:title>
</cp:coreProperties>
</file>